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CBF-59BA-4824-A579-EEE2818D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F76-7DEF-4E91-81BF-03B4B5B9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DF6-5AD6-4B8C-9ADF-C824300C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92C-73D9-4C0C-A567-D7A4AC8B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F6B-56A9-4868-AD52-91FE6325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743-4FF4-462F-887E-488DB4DD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9CF-DFBE-47F5-8DCE-6E27977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482-1E00-4FDD-890B-0DE740BE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5F8-CCDE-4C75-8A84-893FE148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7DD-BFFA-489A-82D4-099C0F98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FE4-96FB-4E65-8005-FB2D442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B6C-99F9-48AE-AC19-E82F132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78F-4D94-454D-954C-0914B355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3640" y="25560"/>
            <a:ext cx="8245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ff"/>
                </a:solidFill>
                <a:latin typeface="comic"/>
              </a:rPr>
              <a:t>76</a:t>
            </a:r>
            <a:r>
              <a:rPr b="1" lang="bg-BG" sz="4400" spc="-1" strike="noStrike">
                <a:solidFill>
                  <a:srgbClr val="808080"/>
                </a:solidFill>
                <a:latin typeface="comic"/>
              </a:rPr>
              <a:t>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зная, жив е Господ мой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приготвил е и място м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Корона славна дава Той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всек, в кръвта Му що е спас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076400" y="44640"/>
            <a:ext cx="733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Него се надявам аз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нежно кани ме сега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чувам благия Му глас: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"Ела, да бъдеш с Мен всегда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02880" y="116640"/>
            <a:ext cx="73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Ще дойде скоро Той, аз знам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че времето не е далеч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когато ще съм горе там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да пея с ангели наве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0:16:45Z</dcterms:created>
  <dc:creator>TrifonTrifonow</dc:creator>
  <dc:description/>
  <dc:language>en-US</dc:language>
  <cp:lastModifiedBy>TrifonTrifonow</cp:lastModifiedBy>
  <dcterms:modified xsi:type="dcterms:W3CDTF">2005-11-23T20:32:24Z</dcterms:modified>
  <cp:revision>10</cp:revision>
  <dc:subject/>
  <dc:title>Slide 1</dc:title>
</cp:coreProperties>
</file>